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24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13.png" ContentType="image/png"/>
  <Override PartName="/ppt/media/image29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30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E086-2927-488F-A2DB-F23A2F42FA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CC7B-8675-4B94-B03B-FD5C2A0E52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16AE-ADFB-45BC-8F5F-6EA18E16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AA63-7410-4B82-AF84-30D262AC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AD21-4A35-46AB-BACC-CC62B43B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30BB-970D-44EA-AA5D-16BD1AD1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7182-0BFD-48A1-B882-4E7B012B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38DB-E518-4071-8AFC-BBF0EA3C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C6A6-C54C-44D5-AD92-0A792242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A131-384B-4AD7-8A7D-26827C11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386D-5E65-468B-99F6-69C15FCF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30CF-620F-453C-98B6-1C76AF5A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3D91-8C06-469C-A6BB-F9E9B909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7C70-B0D1-4EE4-B841-343547D9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FC84-E1A8-40D9-9F9A-06167F38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D0A8-A09B-4AAB-BD07-83B76E78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2712-7841-4312-AF5C-ED523513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E79E-6A39-4B51-BD0D-3D3FA11B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EE45-2F9A-4AE4-964B-9840CC7C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34395-417B-444E-986B-B0F9A350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B3C6F-A7FB-433C-BE97-66D2538A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EFB87-BD8D-4C26-BCAA-4BD0369A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D74F0-52CF-4037-987E-77B69EEA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BB750-9689-4000-85B6-D38BA27B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1801-7EEE-49D0-98F6-D7C5DA8A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8C615-A9FD-407F-BBF2-2AB78857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A87DE-E145-42DB-9ED6-6A6C7B43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89DEF-8216-4CA4-B7B4-E95D9F44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AC506-F0A1-4D2A-B6CD-CD80606F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19C0F-FAC1-48AF-9876-054D1FBB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E14FC-12B7-4DEC-B17B-AD96A18B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22130-ADB6-414B-85B3-65DA4ACD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83980-E050-45E2-A8E6-C7E7042F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D81ED-F8DC-4314-84AA-CE94B1C3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D6ED0-BDB7-42A4-B461-2217FC13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D463-1AE6-4B33-AD35-7CBD66D4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73B85-8793-4EFF-A35A-278B0336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58FB4-850E-4DC6-8AB3-7C785D69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66F89-B7DF-4A65-80F2-6B303B39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72576-8B90-40EF-97E7-E7C8CB74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A0153-A976-4BB4-B8FF-D7EE0A8C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A1719-24E7-4C40-A943-45A2B658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0F50C-8466-4922-8DA8-9AE42DCB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1F561-044F-4D2E-A8B3-8EE9B4CA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1B640-AE04-47C6-BFFB-09B4CAEF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AD9-5F0A-4B50-8407-57F13622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D0AF-B294-4EFD-82B4-BFB64F6B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A3AF-416C-45E2-9D73-96CB312B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3ABB-EC2B-4BA4-916E-47426F7F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CFE2-9818-4BDC-8817-31BD0467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79C1-CF30-4797-8A07-A2C6AEA32C4D}" type="slidenum">
              <a:rPr b="0" lang="ru-RU" sz="1200" spc="-1" strike="noStrike">
                <a:solidFill>
                  <a:srgbClr val="61616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98F6-B01E-4D86-8637-4C6112324D09}" type="slidenum">
              <a:rPr b="0" lang="ru-RU" sz="1200" spc="-1" strike="noStrike">
                <a:solidFill>
                  <a:srgbClr val="c8c8c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90CD-28F2-4909-B4B8-4DB6569C7436}" type="slidenum">
              <a:rPr b="0" lang="ru-RU" sz="1200" spc="-1" strike="noStrike">
                <a:solidFill>
                  <a:srgbClr val="c8c8c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44D1-4071-4E14-9A9C-130350287084}" type="slidenum">
              <a:rPr b="0" lang="ru-RU" sz="1200" spc="-1" strike="noStrike">
                <a:solidFill>
                  <a:srgbClr val="61616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0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92400" y="6858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66666"/>
                </a:solidFill>
                <a:latin typeface="Calibri"/>
              </a:rPr>
              <a:t>ХАНС КРИСТИАН АНДЕРСЕН</a:t>
            </a:r>
            <a:br>
              <a:rPr sz="5000"/>
            </a:br>
            <a:r>
              <a:rPr b="0" lang="ru-RU" sz="5000" spc="-1" strike="noStrike">
                <a:solidFill>
                  <a:srgbClr val="666666"/>
                </a:solidFill>
                <a:latin typeface="Calibri"/>
              </a:rPr>
              <a:t>(1805-1875)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03" name="Picture 4" descr="F:\13 марта\анд.jpg"/>
          <p:cNvPicPr/>
          <p:nvPr/>
        </p:nvPicPr>
        <p:blipFill>
          <a:blip r:embed="rId1"/>
          <a:stretch/>
        </p:blipFill>
        <p:spPr>
          <a:xfrm>
            <a:off x="2743200" y="1905120"/>
            <a:ext cx="1828800" cy="2603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51920" y="228600"/>
            <a:ext cx="4343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Актёром Андерсен так и не стал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Он много путешествова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и стал знаменитым сказочник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При его жизни сказки были переведены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на пятнадцать языко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после смерти – едва ли не на все языки мир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Ханс Кристиан Андерсен сочини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более ста семидесяти сказок, семьсот семьдесят стихотворений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шесть романов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и множество пье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4" descr="F:\13 марта\огниво.jpg"/>
          <p:cNvPicPr/>
          <p:nvPr/>
        </p:nvPicPr>
        <p:blipFill>
          <a:blip r:embed="rId1"/>
          <a:stretch/>
        </p:blipFill>
        <p:spPr>
          <a:xfrm>
            <a:off x="7238880" y="304920"/>
            <a:ext cx="1602000" cy="2271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F:\13 марта\г.ут.jpg"/>
          <p:cNvPicPr/>
          <p:nvPr/>
        </p:nvPicPr>
        <p:blipFill>
          <a:blip r:embed="rId2"/>
          <a:stretch/>
        </p:blipFill>
        <p:spPr>
          <a:xfrm>
            <a:off x="4648320" y="228600"/>
            <a:ext cx="1706400" cy="2133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F:\13 марта\атик.jpg"/>
          <p:cNvPicPr/>
          <p:nvPr/>
        </p:nvPicPr>
        <p:blipFill>
          <a:blip r:embed="rId3"/>
          <a:stretch/>
        </p:blipFill>
        <p:spPr>
          <a:xfrm>
            <a:off x="7561440" y="4724280"/>
            <a:ext cx="1582560" cy="2133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F:\13 марта\дюйм.jpg"/>
          <p:cNvPicPr/>
          <p:nvPr/>
        </p:nvPicPr>
        <p:blipFill>
          <a:blip r:embed="rId4"/>
          <a:stretch/>
        </p:blipFill>
        <p:spPr>
          <a:xfrm>
            <a:off x="4648320" y="4419720"/>
            <a:ext cx="1828800" cy="2260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F:\13 марта\лебеди.jpg"/>
          <p:cNvPicPr/>
          <p:nvPr/>
        </p:nvPicPr>
        <p:blipFill>
          <a:blip r:embed="rId5"/>
          <a:stretch/>
        </p:blipFill>
        <p:spPr>
          <a:xfrm>
            <a:off x="4572000" y="2514600"/>
            <a:ext cx="1766880" cy="1981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F:\13 марта\принц.jpg"/>
          <p:cNvPicPr/>
          <p:nvPr/>
        </p:nvPicPr>
        <p:blipFill>
          <a:blip r:embed="rId6"/>
          <a:stretch/>
        </p:blipFill>
        <p:spPr>
          <a:xfrm>
            <a:off x="6400800" y="2590920"/>
            <a:ext cx="16765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F:\13 марта\ко.jpg"/>
          <p:cNvPicPr/>
          <p:nvPr/>
        </p:nvPicPr>
        <p:blipFill>
          <a:blip r:embed="rId1"/>
          <a:stretch/>
        </p:blipFill>
        <p:spPr>
          <a:xfrm>
            <a:off x="1260360" y="685800"/>
            <a:ext cx="280692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F:\13 марта\копен.jpg"/>
          <p:cNvPicPr/>
          <p:nvPr/>
        </p:nvPicPr>
        <p:blipFill>
          <a:blip r:embed="rId2"/>
          <a:stretch/>
        </p:blipFill>
        <p:spPr>
          <a:xfrm>
            <a:off x="5181480" y="878040"/>
            <a:ext cx="2590920" cy="2170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F:\13 марта\копенг.jpg"/>
          <p:cNvPicPr/>
          <p:nvPr/>
        </p:nvPicPr>
        <p:blipFill>
          <a:blip r:embed="rId3"/>
          <a:stretch/>
        </p:blipFill>
        <p:spPr>
          <a:xfrm>
            <a:off x="1219320" y="3322800"/>
            <a:ext cx="3276360" cy="2849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F:\13 марта\копе.jpg"/>
          <p:cNvPicPr/>
          <p:nvPr/>
        </p:nvPicPr>
        <p:blipFill>
          <a:blip r:embed="rId4"/>
          <a:stretch/>
        </p:blipFill>
        <p:spPr>
          <a:xfrm>
            <a:off x="5181480" y="3781440"/>
            <a:ext cx="2895840" cy="2543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F:\13 марта\ол.солд.jpg"/>
          <p:cNvPicPr/>
          <p:nvPr/>
        </p:nvPicPr>
        <p:blipFill>
          <a:blip r:embed="rId5"/>
          <a:stretch/>
        </p:blipFill>
        <p:spPr>
          <a:xfrm>
            <a:off x="3705120" y="2514600"/>
            <a:ext cx="193356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66"/>
                </a:solidFill>
                <a:latin typeface="Calibri"/>
              </a:rPr>
              <a:t>4  августа 1875 года великого   сказочника не стало.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2" descr="F:\Андерсен\569_PICT0414.jpg"/>
          <p:cNvPicPr/>
          <p:nvPr/>
        </p:nvPicPr>
        <p:blipFill>
          <a:blip r:embed="rId1"/>
          <a:stretch/>
        </p:blipFill>
        <p:spPr>
          <a:xfrm>
            <a:off x="228600" y="1447920"/>
            <a:ext cx="3983040" cy="482904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4" descr=""/>
          <p:cNvPicPr/>
          <p:nvPr/>
        </p:nvPicPr>
        <p:blipFill>
          <a:blip r:embed="rId2"/>
          <a:stretch/>
        </p:blipFill>
        <p:spPr>
          <a:xfrm>
            <a:off x="4346640" y="2133720"/>
            <a:ext cx="4797360" cy="2584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152280" y="151920"/>
            <a:ext cx="472464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7493d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Великому сказочник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и его героям поставлены  памятники. А героиня сказки Х.К.Андерсена «Русалочка» стала символом столицы Дании – Копенгаге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Начиная с 1967 год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по решению Международного совета по детской книг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2 апреля (в день рождения Ханса Кристиана Андерсена) отмечается </a:t>
            </a:r>
            <a:r>
              <a:rPr b="0" lang="ru-RU" sz="2400" spc="-1" strike="noStrike" u="sng">
                <a:solidFill>
                  <a:srgbClr val="17bbfd"/>
                </a:solidFill>
                <a:uFillTx/>
                <a:latin typeface="Bookman Old Style"/>
                <a:hlinkClick r:id="rId1" action="ppaction://hlinksldjump"/>
              </a:rPr>
              <a:t>Международный день детской книг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4" descr="Русалочка"/>
          <p:cNvPicPr/>
          <p:nvPr/>
        </p:nvPicPr>
        <p:blipFill>
          <a:blip r:embed="rId2"/>
          <a:stretch/>
        </p:blipFill>
        <p:spPr>
          <a:xfrm>
            <a:off x="5410080" y="914400"/>
            <a:ext cx="3332160" cy="4433760"/>
          </a:xfrm>
          <a:prstGeom prst="rect">
            <a:avLst/>
          </a:prstGeom>
          <a:ln w="76320">
            <a:solidFill>
              <a:srgbClr val="87493d"/>
            </a:solidFill>
            <a:miter/>
          </a:ln>
        </p:spPr>
      </p:pic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5400" spc="-1" strike="noStrike">
                <a:solidFill>
                  <a:srgbClr val="ab0043"/>
                </a:solidFill>
                <a:latin typeface="Bookman Old Style"/>
              </a:rPr>
              <a:t>Дом Х.К. Андерсена в г.Копенгагене</a:t>
            </a:r>
            <a:endParaRPr b="0" lang="en-US" sz="54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42" name="Picture 5" descr="Дом Андерсенв в Копенгагене"/>
          <p:cNvPicPr/>
          <p:nvPr/>
        </p:nvPicPr>
        <p:blipFill>
          <a:blip r:embed="rId1"/>
          <a:stretch/>
        </p:blipFill>
        <p:spPr>
          <a:xfrm>
            <a:off x="2133720" y="2057400"/>
            <a:ext cx="4876560" cy="3578400"/>
          </a:xfrm>
          <a:prstGeom prst="rect">
            <a:avLst/>
          </a:prstGeom>
          <a:ln w="76320">
            <a:solidFill>
              <a:srgbClr val="990033"/>
            </a:solidFill>
            <a:miter/>
          </a:ln>
        </p:spPr>
      </p:pic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2" descr="F:\13 марта\огниво.jpg"/>
          <p:cNvPicPr/>
          <p:nvPr/>
        </p:nvPicPr>
        <p:blipFill>
          <a:blip r:embed="rId1"/>
          <a:stretch/>
        </p:blipFill>
        <p:spPr>
          <a:xfrm>
            <a:off x="228600" y="304920"/>
            <a:ext cx="1457280" cy="1828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F:\13 марта\св.пас.jpg"/>
          <p:cNvPicPr/>
          <p:nvPr/>
        </p:nvPicPr>
        <p:blipFill>
          <a:blip r:embed="rId2"/>
          <a:stretch/>
        </p:blipFill>
        <p:spPr>
          <a:xfrm>
            <a:off x="457200" y="2286000"/>
            <a:ext cx="1940040" cy="2514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F:\13 марта\г.ут.jpg"/>
          <p:cNvPicPr/>
          <p:nvPr/>
        </p:nvPicPr>
        <p:blipFill>
          <a:blip r:embed="rId3"/>
          <a:stretch/>
        </p:blipFill>
        <p:spPr>
          <a:xfrm>
            <a:off x="2362320" y="0"/>
            <a:ext cx="1766880" cy="2057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F:\13 марта\атик.jpg"/>
          <p:cNvPicPr/>
          <p:nvPr/>
        </p:nvPicPr>
        <p:blipFill>
          <a:blip r:embed="rId4"/>
          <a:stretch/>
        </p:blipFill>
        <p:spPr>
          <a:xfrm>
            <a:off x="1752480" y="4191120"/>
            <a:ext cx="1690920" cy="2357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F:\13 марта\дюйм.jpg"/>
          <p:cNvPicPr/>
          <p:nvPr/>
        </p:nvPicPr>
        <p:blipFill>
          <a:blip r:embed="rId5"/>
          <a:stretch/>
        </p:blipFill>
        <p:spPr>
          <a:xfrm>
            <a:off x="4876920" y="0"/>
            <a:ext cx="1490400" cy="2152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F:\13 марта\дик.леб.jpg"/>
          <p:cNvPicPr/>
          <p:nvPr/>
        </p:nvPicPr>
        <p:blipFill>
          <a:blip r:embed="rId6"/>
          <a:stretch/>
        </p:blipFill>
        <p:spPr>
          <a:xfrm>
            <a:off x="2971800" y="2057400"/>
            <a:ext cx="1600200" cy="2209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F:\13 марта\оле.jpg"/>
          <p:cNvPicPr/>
          <p:nvPr/>
        </p:nvPicPr>
        <p:blipFill>
          <a:blip r:embed="rId7"/>
          <a:stretch/>
        </p:blipFill>
        <p:spPr>
          <a:xfrm>
            <a:off x="7010280" y="228600"/>
            <a:ext cx="1852560" cy="2171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F:\13 марта\рус.jpg"/>
          <p:cNvPicPr/>
          <p:nvPr/>
        </p:nvPicPr>
        <p:blipFill>
          <a:blip r:embed="rId8"/>
          <a:stretch/>
        </p:blipFill>
        <p:spPr>
          <a:xfrm>
            <a:off x="4114800" y="4114800"/>
            <a:ext cx="1809720" cy="2286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F:\13 марта\сн.кор.jpg"/>
          <p:cNvPicPr/>
          <p:nvPr/>
        </p:nvPicPr>
        <p:blipFill>
          <a:blip r:embed="rId9"/>
          <a:stretch/>
        </p:blipFill>
        <p:spPr>
          <a:xfrm>
            <a:off x="5562720" y="220968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F:\13 марта\принц.jpg"/>
          <p:cNvPicPr/>
          <p:nvPr/>
        </p:nvPicPr>
        <p:blipFill>
          <a:blip r:embed="rId10"/>
          <a:stretch/>
        </p:blipFill>
        <p:spPr>
          <a:xfrm>
            <a:off x="6705720" y="4038480"/>
            <a:ext cx="16761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28600" y="3808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   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Bookman Old Style"/>
              </a:rPr>
              <a:t>В сказках  Х. К.Андерсена есть всё,</a:t>
            </a:r>
            <a:br>
              <a:rPr sz="3200"/>
            </a:b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Bookman Old Style"/>
              </a:rPr>
              <a:t>что должно всегда жить в человеке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b0043"/>
                </a:solidFill>
                <a:latin typeface="Bookman Old Style"/>
              </a:rPr>
              <a:t>уважение к мужеству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b0043"/>
                </a:solidFill>
                <a:latin typeface="Bookman Old Style"/>
              </a:rPr>
              <a:t>доброта и сочувствие всем, кому плохо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b0043"/>
                </a:solidFill>
                <a:latin typeface="Bookman Old Style"/>
              </a:rPr>
              <a:t>любовь к людям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b0043"/>
                </a:solidFill>
                <a:latin typeface="Bookman Old Style"/>
              </a:rPr>
              <a:t>презрение к чванливым и бессердечным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Bookman Old Style"/>
              </a:rPr>
              <a:t>В память о великом сказочнике</a:t>
            </a:r>
            <a:endParaRPr b="0" lang="en-US" sz="4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Bookman Old Style"/>
              </a:rPr>
              <a:t>2 апреля – международный день детской книг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Bookman Old Style"/>
              </a:rPr>
              <a:t>Учреждена международная премия Андерсена за создание лучшей книги для дет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Bookman Old Style"/>
              </a:rPr>
              <a:t>Вручается золотая медал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Bookman Old Style"/>
              </a:rPr>
              <a:t>    </a:t>
            </a:r>
            <a:r>
              <a:rPr b="1" i="1" lang="ru-RU" sz="2800" spc="-1" strike="noStrike">
                <a:solidFill>
                  <a:srgbClr val="a50021"/>
                </a:solidFill>
                <a:latin typeface="Bookman Old Style"/>
              </a:rPr>
              <a:t>с профилем  Андерсе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Picture 9" descr="Медаль"/>
          <p:cNvPicPr/>
          <p:nvPr/>
        </p:nvPicPr>
        <p:blipFill>
          <a:blip r:embed="rId1"/>
          <a:stretch/>
        </p:blipFill>
        <p:spPr>
          <a:xfrm>
            <a:off x="6629400" y="4343400"/>
            <a:ext cx="157320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F:\13 марта\анде.jpg"/>
          <p:cNvPicPr/>
          <p:nvPr/>
        </p:nvPicPr>
        <p:blipFill>
          <a:blip r:embed="rId1"/>
          <a:stretch/>
        </p:blipFill>
        <p:spPr>
          <a:xfrm>
            <a:off x="55440" y="1054080"/>
            <a:ext cx="3962520" cy="48290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032000" y="914040"/>
            <a:ext cx="5111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69"/>
                </a:solidFill>
                <a:latin typeface="Constantia"/>
              </a:rPr>
              <a:t>Великий датский сказочник, придумавший огромное количество замечательных сказочных истори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429000" y="838080"/>
            <a:ext cx="5562720" cy="5105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c71ff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4c99ff"/>
                </a:solidFill>
                <a:latin typeface="Bookman Old Style"/>
              </a:rPr>
              <a:t>В Дании есть маленький остров </a:t>
            </a:r>
            <a:r>
              <a:rPr b="1" i="1" lang="ru-RU" sz="2400" spc="-1" strike="noStrike" u="sng">
                <a:solidFill>
                  <a:srgbClr val="4c99ff"/>
                </a:solidFill>
                <a:uFillTx/>
                <a:latin typeface="Bookman Old Style"/>
              </a:rPr>
              <a:t>Фюн</a:t>
            </a:r>
            <a:r>
              <a:rPr b="1" i="1" lang="ru-RU" sz="2400" spc="-1" strike="noStrike">
                <a:solidFill>
                  <a:srgbClr val="4c99ff"/>
                </a:solidFill>
                <a:latin typeface="Bookman Old Style"/>
              </a:rPr>
              <a:t>, а на нем город </a:t>
            </a:r>
            <a:r>
              <a:rPr b="1" i="1" lang="ru-RU" sz="2400" spc="-1" strike="noStrike" u="sng">
                <a:solidFill>
                  <a:srgbClr val="4c99ff"/>
                </a:solidFill>
                <a:uFillTx/>
                <a:latin typeface="Bookman Old Style"/>
              </a:rPr>
              <a:t>Оденсе</a:t>
            </a:r>
            <a:r>
              <a:rPr b="1" i="1" lang="ru-RU" sz="2400" spc="-1" strike="noStrike">
                <a:solidFill>
                  <a:srgbClr val="4c99ff"/>
                </a:solidFill>
                <a:latin typeface="Bookman Old Style"/>
              </a:rPr>
              <a:t>. </a:t>
            </a:r>
            <a:r>
              <a:rPr b="1" i="1" lang="ru-RU" sz="2400" spc="-1" strike="noStrike">
                <a:solidFill>
                  <a:srgbClr val="4c99ff"/>
                </a:solidFill>
                <a:latin typeface="Bookman Old Style"/>
              </a:rPr>
              <a:t>Здесь 2 апреля 1805 года и родился будущий знаменитый сказочник. Семья жила на самой окраине, возле реки, и была очень бедна. Отец был башмачником. Мать была прачкой. Ханс учился в школе для бедных. Там преподавали письмо, арифметику и Закон Бож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4" descr="андерсен"/>
          <p:cNvPicPr/>
          <p:nvPr/>
        </p:nvPicPr>
        <p:blipFill>
          <a:blip r:embed="rId1"/>
          <a:stretch/>
        </p:blipFill>
        <p:spPr>
          <a:xfrm>
            <a:off x="-6480" y="1152360"/>
            <a:ext cx="3517920" cy="4260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b0043"/>
                </a:solidFill>
                <a:latin typeface="Bookman Old Style"/>
              </a:rPr>
              <a:t>Город Оденсе.  Дом, в котором родился писатель. </a:t>
            </a:r>
            <a:br>
              <a:rPr sz="2800"/>
            </a:b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11" name="Picture 4" descr="Дом"/>
          <p:cNvPicPr/>
          <p:nvPr/>
        </p:nvPicPr>
        <p:blipFill>
          <a:blip r:embed="rId1"/>
          <a:stretch/>
        </p:blipFill>
        <p:spPr>
          <a:xfrm>
            <a:off x="2133720" y="2209680"/>
            <a:ext cx="5130720" cy="39625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Несмотря на то, что семья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была бедной, у маленьког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Ханса не было недостатка 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игрушках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Чего только  не делал ему отец!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И картинки с превращениям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и двигающиеся мельницы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и  кивающие головами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самодельные куклы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А какие  интересные сказк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рассказывал мальчику отец –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вспоминал те, что слышал  в детстве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пересказывал и читал книг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4" descr="100"/>
          <p:cNvPicPr/>
          <p:nvPr/>
        </p:nvPicPr>
        <p:blipFill>
          <a:blip r:embed="rId1"/>
          <a:stretch/>
        </p:blipFill>
        <p:spPr>
          <a:xfrm>
            <a:off x="6426360" y="0"/>
            <a:ext cx="249048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Ханс и сам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начал придумывать сказки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но рассказывать их взрослым стеснял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Первые сказки Андерсена слушал только</a:t>
            </a:r>
            <a:r>
              <a:rPr b="1" i="1" lang="en-US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старый домашний кот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Отец Андерсена всегда мечта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о путешествиях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но так нигде и не побывал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А мальчик придумывает сказк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о китайском принце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который пророет весь земной шар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вылезет прямо в Оденс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b0043"/>
                </a:solidFill>
                <a:latin typeface="Bookman Old Style"/>
              </a:rPr>
              <a:t>и заберет его с собой в Кита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3" descr="101"/>
          <p:cNvPicPr/>
          <p:nvPr/>
        </p:nvPicPr>
        <p:blipFill>
          <a:blip r:embed="rId1"/>
          <a:stretch/>
        </p:blipFill>
        <p:spPr>
          <a:xfrm>
            <a:off x="6781680" y="2209680"/>
            <a:ext cx="167652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0" y="761760"/>
            <a:ext cx="4952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b0043"/>
                </a:solidFill>
                <a:latin typeface="Bookman Old Style"/>
              </a:rPr>
              <a:t>Обладавший красивым певучим голосом, Андерсен с детства был вхож во многие богатые дома Оденсе. Ханс Кристиан развлекал хозяев пением и чтением, за что получил прозвище «маленький соловей с острова Фюн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b0043"/>
                </a:solidFill>
                <a:latin typeface="Bookman Old Style"/>
              </a:rPr>
              <a:t>В </a:t>
            </a:r>
            <a:r>
              <a:rPr b="0" lang="ru-RU" sz="2000" spc="-1" strike="noStrike" u="sng">
                <a:solidFill>
                  <a:srgbClr val="17bbfd"/>
                </a:solidFill>
                <a:uFillTx/>
                <a:latin typeface="Bookman Old Style"/>
                <a:hlinkClick r:id="rId1" action="ppaction://hlinksldjump"/>
              </a:rPr>
              <a:t>провинциальном </a:t>
            </a:r>
            <a:r>
              <a:rPr b="1" i="1" lang="ru-RU" sz="2000" spc="-1" strike="noStrike">
                <a:solidFill>
                  <a:srgbClr val="ab0043"/>
                </a:solidFill>
                <a:latin typeface="Bookman Old Style"/>
              </a:rPr>
              <a:t>датском городке Оденсе был и театр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7bbfd"/>
                </a:solidFill>
                <a:uFillTx/>
                <a:latin typeface="Bookman Old Style"/>
                <a:hlinkClick r:id="rId2" action="ppaction://hlinksldjump"/>
              </a:rPr>
              <a:t>Гастроли труппы </a:t>
            </a:r>
            <a:r>
              <a:rPr b="1" i="1" lang="ru-RU" sz="2000" spc="-1" strike="noStrike">
                <a:solidFill>
                  <a:srgbClr val="ab0043"/>
                </a:solidFill>
                <a:latin typeface="Bookman Old Style"/>
              </a:rPr>
              <a:t>Королевского театра Копенгагена сыграли, решающую роль в выборе пути,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b0043"/>
                </a:solidFill>
                <a:latin typeface="Bookman Old Style"/>
              </a:rPr>
              <a:t>      </a:t>
            </a:r>
            <a:r>
              <a:rPr b="1" i="1" lang="ru-RU" sz="2000" spc="-1" strike="noStrike">
                <a:solidFill>
                  <a:srgbClr val="ab0043"/>
                </a:solidFill>
                <a:latin typeface="Bookman Old Style"/>
              </a:rPr>
              <a:t>который определил для себ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b0043"/>
                </a:solidFill>
                <a:latin typeface="Bookman Old Style"/>
              </a:rPr>
              <a:t> </a:t>
            </a:r>
            <a:r>
              <a:rPr b="1" i="1" lang="ru-RU" sz="2000" spc="-1" strike="noStrike">
                <a:solidFill>
                  <a:srgbClr val="ab0043"/>
                </a:solidFill>
                <a:latin typeface="Bookman Old Style"/>
              </a:rPr>
              <a:t>юный Ханс Кристиан Андерсен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7493d"/>
                </a:solidFill>
                <a:latin typeface="Bookman Old Style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F:\13 марта\од.театор.jpg"/>
          <p:cNvPicPr/>
          <p:nvPr/>
        </p:nvPicPr>
        <p:blipFill>
          <a:blip r:embed="rId3"/>
          <a:stretch/>
        </p:blipFill>
        <p:spPr>
          <a:xfrm>
            <a:off x="4761000" y="1176480"/>
            <a:ext cx="4017960" cy="317628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6"/>
          <p:cNvSpPr/>
          <p:nvPr/>
        </p:nvSpPr>
        <p:spPr>
          <a:xfrm>
            <a:off x="4572000" y="4572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8007f"/>
                </a:solidFill>
                <a:latin typeface="Arial"/>
              </a:rPr>
              <a:t>Театр в Оден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533520" y="5331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В 1814 году умер отец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Весёлое детство Андерсена закончилось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	</a:t>
            </a: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Одиннадцатилетнему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Хансу Кристиану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   </a:t>
            </a: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пришлось бросить школу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  </a:t>
            </a: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и устроиться работать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  </a:t>
            </a: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на фабрику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b0043"/>
                </a:solidFill>
                <a:latin typeface="Bookman Old Style"/>
              </a:rPr>
              <a:t>В 14 лет Ханс отправился в Копенгаген. Город показался ему великаном. Мечта Андерсена – стать актёром.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Копенгаген"/>
          <p:cNvPicPr/>
          <p:nvPr/>
        </p:nvPicPr>
        <p:blipFill>
          <a:blip r:embed="rId2"/>
          <a:stretch/>
        </p:blipFill>
        <p:spPr>
          <a:xfrm>
            <a:off x="1066680" y="2057400"/>
            <a:ext cx="7229520" cy="4363920"/>
          </a:xfrm>
          <a:prstGeom prst="rect">
            <a:avLst/>
          </a:prstGeom>
          <a:ln w="38160">
            <a:solidFill>
              <a:srgbClr val="17bbfd"/>
            </a:solidFill>
            <a:miter/>
          </a:ln>
        </p:spPr>
      </p:pic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чальная</dc:creator>
  <dc:description/>
  <dc:language>en-US</dc:language>
  <cp:lastModifiedBy>Начальная</cp:lastModifiedBy>
  <dcterms:modified xsi:type="dcterms:W3CDTF">2020-05-15T19:24:15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